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58A4-353B-4D5A-B900-44423042D4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0B81A-57C6-43BE-AA38-D0B8ED0088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A2171-F495-4637-9F7F-92724D93E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48A98-24D4-456B-8682-A7556A5118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E84E3-9333-4191-8786-27F3F16B4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E5D7C-554F-4CBE-B8E2-7CA6CDF59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21BD8-B025-49EC-9280-F8FCF7328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E875C-A22B-41B3-BDB6-A9F125C31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CCCB0-07E6-4B43-AAF0-0C9819002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2B7CD-C968-4C47-88DC-5501D1B92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4C0D6-35BC-4797-BDC5-B72128B97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FB284-413C-4E90-9DBA-CE98F8CCD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BD1A9-F890-49AD-8B69-41CB22CE9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63C72-227F-47B5-BB2E-7B4AD2C97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B8746-58D5-4A6B-ABBA-8BCAFD7CB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3CDAA-F352-412E-83FA-A50744D360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C686F-B2DA-4693-A061-BC3AA7A5AF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Übersetzunge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685440" y="1143000"/>
            <a:ext cx="8077320" cy="4648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s with our other projects, you need to date each entry and skip lines.  All corrections must be made by crossing out errors.  DO NOT ERASE THEM!  Write both the English and the German translation.  You will receive credit for writing them and maintaining accurate recor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don’t kno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forgot my home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you have tissues (Tempo – 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 sorr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happy” in Germ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you say “sad” in Germa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 we have home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d we have home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didn’t do the homewor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533520" y="-487440"/>
            <a:ext cx="8229600" cy="4525920"/>
          </a:xfrm>
          <a:prstGeom prst="rect">
            <a:avLst/>
          </a:prstGeom>
          <a:noFill/>
          <a:ln w="0">
            <a:noFill/>
          </a:ln>
        </p:spPr>
        <p:txBody>
          <a:bodyPr anchor="t">
            <a:normAutofit fontScale="72000"/>
          </a:bodyPr>
          <a:p>
            <a:pPr marL="246960" indent="-246960">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wanted to sleep more (mehr).</a:t>
            </a:r>
            <a:endParaRPr b="0" lang="en-US" sz="3200" spc="-1" strike="noStrike">
              <a:solidFill>
                <a:srgbClr val="000000"/>
              </a:solidFill>
              <a:latin typeface="Calibri"/>
            </a:endParaRPr>
          </a:p>
          <a:p>
            <a:pPr marL="246960" indent="-246960">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she smarter than I?</a:t>
            </a:r>
            <a:endParaRPr b="0" lang="en-US" sz="3200" spc="-1" strike="noStrike">
              <a:solidFill>
                <a:srgbClr val="000000"/>
              </a:solidFill>
              <a:latin typeface="Calibri"/>
            </a:endParaRPr>
          </a:p>
          <a:p>
            <a:pPr marL="246960" indent="-246960">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don’t understand why s/he hates me.</a:t>
            </a:r>
            <a:endParaRPr b="0" lang="en-US" sz="3200" spc="-1" strike="noStrike">
              <a:solidFill>
                <a:srgbClr val="000000"/>
              </a:solidFill>
              <a:latin typeface="Calibri"/>
            </a:endParaRPr>
          </a:p>
          <a:p>
            <a:pPr marL="246960" indent="-246960">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hurt my foot. (I hurt me the foo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533520" y="-487440"/>
            <a:ext cx="8229600" cy="4525920"/>
          </a:xfrm>
          <a:prstGeom prst="rect">
            <a:avLst/>
          </a:prstGeom>
          <a:noFill/>
          <a:ln w="0">
            <a:noFill/>
          </a:ln>
        </p:spPr>
        <p:txBody>
          <a:bodyPr anchor="t">
            <a:normAutofit fontScale="78000"/>
          </a:bodyPr>
          <a:p>
            <a:pPr marL="267480" indent="-267480">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cut my finger (I cut the finger of myself).</a:t>
            </a:r>
            <a:endParaRPr b="0" lang="en-US" sz="3200" spc="-1" strike="noStrike">
              <a:solidFill>
                <a:srgbClr val="000000"/>
              </a:solidFill>
              <a:latin typeface="Calibri"/>
            </a:endParaRPr>
          </a:p>
          <a:p>
            <a:pPr marL="267480" indent="-267480">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you give me a band aid?  </a:t>
            </a:r>
            <a:endParaRPr b="0" lang="en-US" sz="3200" spc="-1" strike="noStrike">
              <a:solidFill>
                <a:srgbClr val="000000"/>
              </a:solidFill>
              <a:latin typeface="Calibri"/>
            </a:endParaRPr>
          </a:p>
          <a:p>
            <a:pPr marL="267480" indent="-267480">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d you buy yourself a car?</a:t>
            </a:r>
            <a:endParaRPr b="0" lang="en-US" sz="3200" spc="-1" strike="noStrike">
              <a:solidFill>
                <a:srgbClr val="000000"/>
              </a:solidFill>
              <a:latin typeface="Calibri"/>
            </a:endParaRPr>
          </a:p>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brush (putzen) our teeth (We brush the teeth of ourselves)</a:t>
            </a:r>
            <a:endParaRPr b="0" lang="en-US" sz="3200" spc="-1" strike="noStrike">
              <a:solidFill>
                <a:srgbClr val="000000"/>
              </a:solidFill>
              <a:latin typeface="Calibri"/>
            </a:endParaRPr>
          </a:p>
          <a:p>
            <a:pPr marL="267480" indent="-267480">
              <a:lnSpc>
                <a:spcPct val="3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7T18:28:50Z</dcterms:created>
  <dc:creator>tmsadmin</dc:creator>
  <dc:description/>
  <dc:language>en-US</dc:language>
  <cp:lastModifiedBy>tmsadmin</cp:lastModifiedBy>
  <dcterms:modified xsi:type="dcterms:W3CDTF">2014-03-24T19:30:49Z</dcterms:modified>
  <cp:revision>34</cp:revision>
  <dc:subject/>
  <dc:title>Übersetzungen</dc:title>
</cp:coreProperties>
</file>